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44D-1FC2-4333-B4C2-1A1CABC0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419-F4AB-45D9-A5EF-D6D18A1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036-822A-49B8-B66D-1854A8F0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168-7CD9-4851-9C4E-58F1DA67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48F0-56C4-459C-96AB-7951A5ED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200D-80E0-42A5-AF06-4820C3D3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4823-5D92-45B4-B2DD-55130BFF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B168-0AEE-4600-AC11-BBFE17C2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8E0-2D30-4012-8ACA-5A499D9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B341-10F3-4C19-8DF4-DCFAF935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E809-170E-4FD9-A564-FEA91FA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CEC8-2876-4FBA-8DCF-395F1A30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C135-0062-4C73-81B1-72F31DF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BA23-6BCE-405E-A21B-3FA61F9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84C-F125-429F-8409-AC20F8AD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FA6F-F58D-41A1-AFC9-B6030621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EC67-8DBC-45BE-8794-16525347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552-C9AD-4FBD-85A2-F8EC8FD8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43F-8B4B-4FF1-9ABE-22A70D4C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0EE-3652-4442-8BC9-5D2A0AE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CB0-2334-4034-A1DD-15E4CF2F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C39-A235-4B89-8E00-97AD3F6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C7B-9AE9-403D-BC3A-0A602CB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8F5-BE2A-4C4C-8672-3B5E2E7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DB10-CAD5-4BE4-8954-117479ADC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B57A-2675-44C0-BE74-0F74BE425A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mazonsk&#253;%20prales-Zelene_pluca%20Zeme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K%20oce&#225;nom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Dejepisne_udalosti_a_prvocisla.doc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Inovatívne metó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atematika – Geografia 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atematika – Dejepis (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Matematika a geograf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Tahoma"/>
              </a:rPr>
              <a:t>Ročník 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: Tercia 8 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Tahoma"/>
              </a:rPr>
              <a:t>Tematický celok 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: Percent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ff0000"/>
                </a:solidFill>
                <a:uFillTx/>
                <a:latin typeface="Tahoma"/>
              </a:rPr>
              <a:t>Didaktická etapa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 :  Záverečné hodiny tem. celku „Percentá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Výchovno – vzdelávacie ciel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ískať zbehlosť pri riešení úloh s percentami, precvičiť naučené algoritm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ôsobiť na vytváranie správneho postoja k prírode, k ochrane životného prostred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Riešením úloh so zaujímavým obsahom rozvíjať záujem žiakov o hlbšie štúdium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temati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5327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Úloha 1. : _x000b_Amazonský prales – Zelené pľúca Ze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852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sk-SK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Úloha 2.: ...K oceánom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Metodické poznám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iesť žiakov k úvahám, ktorý zo známych postupov je v danej situácií najvýhodnejš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edieť správne použiť kalkulačk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rozvíjať medzi predmetové vzťahy (geografia, ekológi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Amazonský prales - žiakov by mal motivovať zaujímavý text hlavného článku ako aj úvodná diskusia o hrozbe zničenia dažďových pralesov a následný vplyv na narušenie ekologickej rovnováhy Zem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žiaci sa stretnú s témou dažďových pralesov v poslednom tematickom celku v sekunde osemročného gymnázia s názvom AMERIKA, v téme : Pôdy, rastlinstvo, živočíšstvo a ochrana prírody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...K oceánom...- v geografii v sekunde v tem. celku Svetový oceá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Matematika - Deje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Tahoma"/>
              </a:rPr>
              <a:t>Ročník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: Sekunda 8 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Tahoma"/>
              </a:rPr>
              <a:t>Tematický celok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: Deliteľnosť prirodzených čí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0000"/>
                </a:solidFill>
                <a:uFillTx/>
                <a:latin typeface="Tahoma"/>
              </a:rPr>
              <a:t>Didaktická etapa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 : V závere tematického cel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Výchovno – vzdelávacie cie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ískať zbehlosť pri určovaní deliteľov čí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ôsobiť na vytváranie správneho postoja k histórii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iešením úloh so zaujímavým obsahom rozvíjať záujem žiakov o hlbšie štúdium</a:t>
            </a: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temati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342900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Úloha 3.:... </a:t>
            </a:r>
            <a:r>
              <a:rPr b="0" lang="sk-SK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Významné roky _x000b_v histórii Slovens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 za pozornos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e4a8"/>
                </a:solidFill>
                <a:latin typeface="Tahoma"/>
              </a:rPr>
              <a:t>Jana</a:t>
            </a:r>
            <a:r>
              <a:rPr b="0" lang="sk-SK" sz="32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e4a8"/>
                </a:solidFill>
                <a:latin typeface="Tahoma"/>
              </a:rPr>
              <a:t>Jašurk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5:41:15Z</dcterms:created>
  <dc:creator>sempron</dc:creator>
  <dc:description/>
  <dc:language>en-US</dc:language>
  <cp:lastModifiedBy>sempron</cp:lastModifiedBy>
  <dcterms:modified xsi:type="dcterms:W3CDTF">2010-10-23T20:02:41Z</dcterms:modified>
  <cp:revision>10</cp:revision>
  <dc:subject/>
  <dc:title>Inovatívne metódy</dc:title>
</cp:coreProperties>
</file>